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8.gif" ContentType="image/gif"/>
  <Override PartName="/ppt/media/image23.wmf" ContentType="image/x-wmf"/>
  <Override PartName="/ppt/media/Wow2.wav" ContentType="audio/x-wav"/>
  <Override PartName="/ppt/media/image27.gif" ContentType="image/gif"/>
  <Override PartName="/ppt/media/cool.wav" ContentType="audio/x-wav"/>
  <Override PartName="/ppt/media/image4.gif" ContentType="image/gif"/>
  <Override PartName="/ppt/media/image3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bee.wav" ContentType="audio/x-wav"/>
  <Override PartName="/ppt/media/image15.gif" ContentType="image/gif"/>
  <Override PartName="/ppt/media/image14.gif" ContentType="image/gif"/>
  <Override PartName="/ppt/media/image10.wmf" ContentType="image/x-wmf"/>
  <Override PartName="/ppt/media/image13.gif" ContentType="image/gif"/>
  <Override PartName="/ppt/media/image11.gif" ContentType="image/gif"/>
  <Override PartName="/ppt/media/image30.gif" ContentType="image/gif"/>
  <Override PartName="/ppt/media/laugh.wav" ContentType="audio/x-wav"/>
  <Override PartName="/ppt/media/image16.wmf" ContentType="image/x-wmf"/>
  <Override PartName="/ppt/media/image29.gif" ContentType="image/gif"/>
  <Override PartName="/ppt/media/3leafclover.wav" ContentType="audio/x-wav"/>
  <Override PartName="/ppt/media/image31.gif" ContentType="image/gif"/>
  <Override PartName="/ppt/media/image1.gif" ContentType="image/gif"/>
  <Override PartName="/ppt/media/image12.wmf" ContentType="image/x-wmf"/>
  <Override PartName="/ppt/media/image33.gif" ContentType="image/gif"/>
  <Override PartName="/ppt/media/image8.gif" ContentType="image/gif"/>
  <Override PartName="/ppt/media/image19.wmf" ContentType="image/x-wmf"/>
  <Override PartName="/ppt/media/image26.wmf" ContentType="image/x-wmf"/>
  <Override PartName="/ppt/media/image38.jpeg" ContentType="image/jpeg"/>
  <Override PartName="/ppt/media/image35.gif" ContentType="image/gif"/>
  <Override PartName="/ppt/media/image40.png" ContentType="image/png"/>
  <Override PartName="/ppt/media/image6.gif" ContentType="image/gif"/>
  <Override PartName="/ppt/media/image36.gif" ContentType="image/gif"/>
  <Override PartName="/ppt/media/yikes.wav" ContentType="audio/x-wav"/>
  <Override PartName="/ppt/media/image7.png" ContentType="image/png"/>
  <Override PartName="/ppt/media/image3.wmf" ContentType="image/x-wmf"/>
  <Override PartName="/ppt/media/image37.gif" ContentType="image/gif"/>
  <Override PartName="/ppt/media/image39.gif" ContentType="image/gif"/>
  <Override PartName="/ppt/media/image9.gif" ContentType="image/gif"/>
  <Override PartName="/ppt/media/image5.wmf" ContentType="image/x-wmf"/>
  <Override PartName="/ppt/media/image32.gif" ContentType="image/gif"/>
  <Override PartName="/ppt/media/image2.gif" ContentType="image/gif"/>
  <Override PartName="/ppt/media/image21.wmf" ContentType="image/x-wmf"/>
  <Override PartName="/ppt/media/image25.gif" ContentType="image/gif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93A-F351-42C0-983E-1076C7A0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8AA-8E74-44D8-B184-BD932EF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FA8-277A-4C87-BEF3-DA5F6E01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6FA-FCA2-4E5E-A7E6-69C022EB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33D-8FD6-4A5C-8FA0-9516289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BF4-5DE5-485F-94F0-229FE1B5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D1E-5AD9-4B46-A149-64B2CC0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DA2-069E-4335-8DBC-23EF5D8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4D6-A040-43E6-A184-45A24AA8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0DE-46DF-404F-BC86-296C4AA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459-2924-4A44-8C2B-E9BDA9E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1AF-A0DA-47AB-822B-CDDA25C3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611-BBE5-48E5-AD06-B95529345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Wow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hyperlink" Target="file:///SCORE.XLS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9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" Target="slide24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6.xml"/><Relationship Id="rId14" Type="http://schemas.openxmlformats.org/officeDocument/2006/relationships/slide" Target="slide39.xml"/><Relationship Id="rId15" Type="http://schemas.openxmlformats.org/officeDocument/2006/relationships/slide" Target="slide42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1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3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5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8.gif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cool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0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2.gif"/><Relationship Id="rId3" Type="http://schemas.openxmlformats.org/officeDocument/2006/relationships/hyperlink" Target="file:///score%20by%20Laura%20Leanne.xls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5.gif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3leafclover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7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yik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9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0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1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2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3.gif"/><Relationship Id="rId3" Type="http://schemas.openxmlformats.org/officeDocument/2006/relationships/hyperlink" Target="file:///SCORE.XLS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SCORE.XLS" TargetMode="External"/><Relationship Id="rId4" Type="http://schemas.openxmlformats.org/officeDocument/2006/relationships/audio" Target="../media/laug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6668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OL Weather 2nd Gr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AutoShape 8">
            <a:hlinkClick r:id="" action="ppaction://hlinkshowjump?jump=nextslide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ermometer is a tool used to measure the temperat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6" descr=""/>
          <p:cNvPicPr/>
          <p:nvPr/>
        </p:nvPicPr>
        <p:blipFill>
          <a:blip r:embed="rId4"/>
          <a:stretch/>
        </p:blipFill>
        <p:spPr>
          <a:xfrm>
            <a:off x="2743200" y="114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ylani_"/>
          <p:cNvPicPr/>
          <p:nvPr/>
        </p:nvPicPr>
        <p:blipFill>
          <a:blip r:embed="rId1"/>
          <a:stretch/>
        </p:blipFill>
        <p:spPr>
          <a:xfrm>
            <a:off x="3581280" y="1600200"/>
            <a:ext cx="2387880" cy="3409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33520" y="2286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w!  You’re goo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ow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228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USA, our thermometers measure in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elci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209680" y="45720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USA, our thermometers measure i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hrenhei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8">
            <a:hlinkClick r:id="rId1" action="ppaction://hlinksldjump"/>
          </p:cNvPr>
          <p:cNvSpPr/>
          <p:nvPr/>
        </p:nvSpPr>
        <p:spPr>
          <a:xfrm>
            <a:off x="7010280" y="5105520"/>
            <a:ext cx="1752840" cy="1752480"/>
          </a:xfrm>
          <a:custGeom>
            <a:avLst/>
            <a:gdLst>
              <a:gd name="textAreaLeft" fmla="*/ 113400 w 1752840"/>
              <a:gd name="textAreaRight" fmla="*/ 1639440 w 17528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4" h="21600">
                <a:moveTo>
                  <a:pt x="0" y="0"/>
                </a:moveTo>
                <a:lnTo>
                  <a:pt x="21604" y="0"/>
                </a:lnTo>
                <a:lnTo>
                  <a:pt x="21604" y="21600"/>
                </a:lnTo>
                <a:lnTo>
                  <a:pt x="0" y="21600"/>
                </a:lnTo>
                <a:close/>
              </a:path>
              <a:path fill="lightenLess" w="21604" h="21600">
                <a:moveTo>
                  <a:pt x="0" y="0"/>
                </a:moveTo>
                <a:lnTo>
                  <a:pt x="21604" y="0"/>
                </a:lnTo>
                <a:lnTo>
                  <a:pt x="20204" y="1400"/>
                </a:lnTo>
                <a:lnTo>
                  <a:pt x="1400" y="1400"/>
                </a:lnTo>
                <a:close/>
              </a:path>
              <a:path fill="darken" w="21604" h="21600">
                <a:moveTo>
                  <a:pt x="21604" y="0"/>
                </a:moveTo>
                <a:lnTo>
                  <a:pt x="21604" y="21600"/>
                </a:lnTo>
                <a:lnTo>
                  <a:pt x="20204" y="20200"/>
                </a:lnTo>
                <a:lnTo>
                  <a:pt x="20204" y="1400"/>
                </a:lnTo>
                <a:close/>
              </a:path>
              <a:path fill="darkenLess" w="21604" h="21600">
                <a:moveTo>
                  <a:pt x="21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4" y="20200"/>
                </a:lnTo>
                <a:close/>
              </a:path>
              <a:path fill="lighten" w="21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4" h="21600">
                <a:moveTo>
                  <a:pt x="10802" y="3837"/>
                </a:moveTo>
                <a:lnTo>
                  <a:pt x="13379" y="6448"/>
                </a:ln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lnTo>
                  <a:pt x="17765" y="10800"/>
                </a:lnTo>
                <a:lnTo>
                  <a:pt x="16111" y="10800"/>
                </a:lnTo>
                <a:lnTo>
                  <a:pt x="16111" y="17989"/>
                </a:lnTo>
                <a:lnTo>
                  <a:pt x="5493" y="17989"/>
                </a:lnTo>
                <a:lnTo>
                  <a:pt x="5493" y="10800"/>
                </a:lnTo>
                <a:lnTo>
                  <a:pt x="3839" y="10800"/>
                </a:lnTo>
                <a:close/>
              </a:path>
              <a:path fill="darkenLess" w="21604" h="21600">
                <a:moveTo>
                  <a:pt x="13379" y="6448"/>
                </a:moveTo>
                <a:lnTo>
                  <a:pt x="13379" y="4707"/>
                </a:lnTo>
                <a:lnTo>
                  <a:pt x="15154" y="4707"/>
                </a:lnTo>
                <a:lnTo>
                  <a:pt x="15154" y="8224"/>
                </a:lnTo>
                <a:close/>
              </a:path>
              <a:path fill="darkenLess" w="21604" h="21600">
                <a:moveTo>
                  <a:pt x="9880" y="14299"/>
                </a:moveTo>
                <a:lnTo>
                  <a:pt x="11725" y="14299"/>
                </a:lnTo>
                <a:lnTo>
                  <a:pt x="11725" y="17989"/>
                </a:lnTo>
                <a:lnTo>
                  <a:pt x="16111" y="17989"/>
                </a:lnTo>
                <a:lnTo>
                  <a:pt x="16111" y="10800"/>
                </a:lnTo>
                <a:lnTo>
                  <a:pt x="5493" y="10800"/>
                </a:lnTo>
                <a:lnTo>
                  <a:pt x="5493" y="17989"/>
                </a:lnTo>
                <a:lnTo>
                  <a:pt x="9880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1" descr=""/>
          <p:cNvPicPr/>
          <p:nvPr/>
        </p:nvPicPr>
        <p:blipFill>
          <a:blip r:embed="rId4"/>
          <a:stretch/>
        </p:blipFill>
        <p:spPr>
          <a:xfrm>
            <a:off x="2438280" y="22096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3733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 rot="1629000">
            <a:off x="17640" y="1980720"/>
            <a:ext cx="9144000" cy="11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 don't know how I could have did doubted you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0" y="2438280"/>
            <a:ext cx="337176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772240" y="0"/>
            <a:ext cx="3371760" cy="2757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>
            <a:hlinkClick r:id="rId6"/>
          </p:cNvPr>
          <p:cNvSpPr/>
          <p:nvPr/>
        </p:nvSpPr>
        <p:spPr>
          <a:xfrm>
            <a:off x="42670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762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" action="ppaction://hlinkshowjump?jump=nextslide"/>
          </p:cNvPr>
          <p:cNvSpPr/>
          <p:nvPr/>
        </p:nvSpPr>
        <p:spPr>
          <a:xfrm>
            <a:off x="5943600" y="2438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>
            <a:hlinkClick r:id="rId1" action="ppaction://hlinksldjump"/>
          </p:cNvPr>
          <p:cNvSpPr/>
          <p:nvPr/>
        </p:nvSpPr>
        <p:spPr>
          <a:xfrm>
            <a:off x="5943600" y="1447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45720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5 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457200" y="762120"/>
            <a:ext cx="8410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esar"/>
              </a:rPr>
              <a:t>Being a genius certaintly has its advantage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esar"/>
              <a:ea typeface="Caesar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37024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28600" y="45720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3808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snow that may be blown into snow drifts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izza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4"/>
          <a:stretch/>
        </p:blipFill>
        <p:spPr>
          <a:xfrm>
            <a:off x="914400" y="2585880"/>
            <a:ext cx="5283360" cy="427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oudy Heavyface"/>
              </a:rPr>
              <a:t>SOL Weather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609480" y="9907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048120" y="9907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990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6172200" y="9907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8">
            <a:hlinkClick r:id="rId1" action="ppaction://hlinksldjump"/>
          </p:cNvPr>
          <p:cNvSpPr/>
          <p:nvPr/>
        </p:nvSpPr>
        <p:spPr>
          <a:xfrm>
            <a:off x="609480" y="297180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">
            <a:hlinkClick r:id="" action="ppaction://hlinkshowjump?jump=nextslide"/>
          </p:cNvPr>
          <p:cNvSpPr/>
          <p:nvPr/>
        </p:nvSpPr>
        <p:spPr>
          <a:xfrm>
            <a:off x="609480" y="19810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>
            <a:hlinkClick r:id="rId4" action="ppaction://hlinksldjump"/>
          </p:cNvPr>
          <p:cNvSpPr/>
          <p:nvPr/>
        </p:nvSpPr>
        <p:spPr>
          <a:xfrm>
            <a:off x="609480" y="3962520"/>
            <a:ext cx="2438640" cy="99036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3176" h="21600">
                <a:moveTo>
                  <a:pt x="0" y="0"/>
                </a:moveTo>
                <a:lnTo>
                  <a:pt x="53176" y="0"/>
                </a:lnTo>
                <a:lnTo>
                  <a:pt x="53176" y="21600"/>
                </a:lnTo>
                <a:lnTo>
                  <a:pt x="0" y="21600"/>
                </a:lnTo>
                <a:close/>
              </a:path>
              <a:path fill="lightenLess" w="53176" h="21600">
                <a:moveTo>
                  <a:pt x="0" y="0"/>
                </a:moveTo>
                <a:lnTo>
                  <a:pt x="53176" y="0"/>
                </a:lnTo>
                <a:lnTo>
                  <a:pt x="51776" y="1400"/>
                </a:lnTo>
                <a:lnTo>
                  <a:pt x="1400" y="1400"/>
                </a:lnTo>
                <a:close/>
              </a:path>
              <a:path fill="darken" w="53176" h="21600">
                <a:moveTo>
                  <a:pt x="53176" y="0"/>
                </a:moveTo>
                <a:lnTo>
                  <a:pt x="53176" y="21600"/>
                </a:lnTo>
                <a:lnTo>
                  <a:pt x="51776" y="20200"/>
                </a:lnTo>
                <a:lnTo>
                  <a:pt x="51776" y="1400"/>
                </a:lnTo>
                <a:close/>
              </a:path>
              <a:path fill="darkenLess" w="53176" h="21600">
                <a:moveTo>
                  <a:pt x="53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76" y="20200"/>
                </a:lnTo>
                <a:close/>
              </a:path>
              <a:path fill="lighten" w="53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>
            <a:hlinkClick r:id="rId6" action="ppaction://hlinksldjump"/>
          </p:cNvPr>
          <p:cNvSpPr/>
          <p:nvPr/>
        </p:nvSpPr>
        <p:spPr>
          <a:xfrm>
            <a:off x="6094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048120" y="19810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048120" y="29718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048120" y="39625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048120" y="4952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724280" y="19810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724280" y="2971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4724280" y="38862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4724280" y="48769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6172200" y="19810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4"/>
          <p:cNvSpPr/>
          <p:nvPr/>
        </p:nvSpPr>
        <p:spPr>
          <a:xfrm>
            <a:off x="6172200" y="28954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5"/>
          <p:cNvSpPr/>
          <p:nvPr/>
        </p:nvSpPr>
        <p:spPr>
          <a:xfrm>
            <a:off x="6172200" y="388620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/>
          <p:cNvSpPr/>
          <p:nvPr/>
        </p:nvSpPr>
        <p:spPr>
          <a:xfrm>
            <a:off x="6172200" y="4876920"/>
            <a:ext cx="2133720" cy="99036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6528" h="21600">
                <a:moveTo>
                  <a:pt x="0" y="0"/>
                </a:moveTo>
                <a:lnTo>
                  <a:pt x="46528" y="0"/>
                </a:lnTo>
                <a:lnTo>
                  <a:pt x="46528" y="21600"/>
                </a:lnTo>
                <a:lnTo>
                  <a:pt x="0" y="21600"/>
                </a:lnTo>
                <a:close/>
              </a:path>
              <a:path fill="lightenLess" w="46528" h="21600">
                <a:moveTo>
                  <a:pt x="0" y="0"/>
                </a:moveTo>
                <a:lnTo>
                  <a:pt x="46528" y="0"/>
                </a:lnTo>
                <a:lnTo>
                  <a:pt x="45128" y="1400"/>
                </a:lnTo>
                <a:lnTo>
                  <a:pt x="1400" y="1400"/>
                </a:lnTo>
                <a:close/>
              </a:path>
              <a:path fill="darken" w="46528" h="21600">
                <a:moveTo>
                  <a:pt x="46528" y="0"/>
                </a:moveTo>
                <a:lnTo>
                  <a:pt x="46528" y="21600"/>
                </a:lnTo>
                <a:lnTo>
                  <a:pt x="45128" y="20200"/>
                </a:lnTo>
                <a:lnTo>
                  <a:pt x="45128" y="1400"/>
                </a:lnTo>
                <a:close/>
              </a:path>
              <a:path fill="darkenLess" w="46528" h="21600">
                <a:moveTo>
                  <a:pt x="46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28" y="20200"/>
                </a:lnTo>
                <a:close/>
              </a:path>
              <a:path fill="lighten" w="46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6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4920" y="38088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0" y="762120"/>
            <a:ext cx="6172200" cy="2666880"/>
          </a:xfrm>
          <a:prstGeom prst="wedgeRectCallout">
            <a:avLst>
              <a:gd name="adj1" fmla="val 74768"/>
              <a:gd name="adj2" fmla="val 4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When you’re RIGHT, you’re RIGH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6172200" y="2550960"/>
            <a:ext cx="297180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28600" y="457200"/>
            <a:ext cx="6019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rain, thunder and lightn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understor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4"/>
          <a:stretch/>
        </p:blipFill>
        <p:spPr>
          <a:xfrm>
            <a:off x="0" y="160020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28195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5800" y="0"/>
            <a:ext cx="3429000" cy="3048120"/>
          </a:xfrm>
          <a:prstGeom prst="cloudCallout">
            <a:avLst>
              <a:gd name="adj1" fmla="val 50000"/>
              <a:gd name="adj2" fmla="val 312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uis!  That is what it is sheer geni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185724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>
            <a:hlinkClick r:id="rId3"/>
          </p:cNvPr>
          <p:cNvSpPr/>
          <p:nvPr/>
        </p:nvSpPr>
        <p:spPr>
          <a:xfrm>
            <a:off x="6324480" y="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556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">
            <a:hlinkClick r:id="" action="ppaction://hlinkshowjump?jump=nextslide"/>
          </p:cNvPr>
          <p:cNvSpPr/>
          <p:nvPr/>
        </p:nvSpPr>
        <p:spPr>
          <a:xfrm>
            <a:off x="5486400" y="167652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5486400" y="43434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">
            <a:hlinkClick r:id="" action="ppaction://hlinkshowjump?jump=nextslide"/>
          </p:cNvPr>
          <p:cNvSpPr/>
          <p:nvPr/>
        </p:nvSpPr>
        <p:spPr>
          <a:xfrm>
            <a:off x="5486400" y="34290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5486400" y="2514600"/>
            <a:ext cx="3657600" cy="914400"/>
          </a:xfrm>
          <a:custGeom>
            <a:avLst/>
            <a:gdLst>
              <a:gd name="textAreaLeft" fmla="*/ 59040 w 3657600"/>
              <a:gd name="textAreaRight" fmla="*/ 3598560 w 3657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6374" h="21600">
                <a:moveTo>
                  <a:pt x="0" y="0"/>
                </a:moveTo>
                <a:lnTo>
                  <a:pt x="86374" y="0"/>
                </a:lnTo>
                <a:lnTo>
                  <a:pt x="86374" y="21600"/>
                </a:lnTo>
                <a:lnTo>
                  <a:pt x="0" y="21600"/>
                </a:lnTo>
                <a:close/>
              </a:path>
              <a:path fill="lightenLess" w="86374" h="21600">
                <a:moveTo>
                  <a:pt x="0" y="0"/>
                </a:moveTo>
                <a:lnTo>
                  <a:pt x="86374" y="0"/>
                </a:lnTo>
                <a:lnTo>
                  <a:pt x="84975" y="1400"/>
                </a:lnTo>
                <a:lnTo>
                  <a:pt x="1400" y="1400"/>
                </a:lnTo>
                <a:close/>
              </a:path>
              <a:path fill="darken" w="86374" h="21600">
                <a:moveTo>
                  <a:pt x="86374" y="0"/>
                </a:moveTo>
                <a:lnTo>
                  <a:pt x="86374" y="21600"/>
                </a:lnTo>
                <a:lnTo>
                  <a:pt x="84975" y="20200"/>
                </a:lnTo>
                <a:lnTo>
                  <a:pt x="84975" y="1400"/>
                </a:lnTo>
                <a:close/>
              </a:path>
              <a:path fill="darkenLess" w="86374" h="21600">
                <a:moveTo>
                  <a:pt x="86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75" y="20200"/>
                </a:lnTo>
                <a:close/>
              </a:path>
              <a:path fill="lighten" w="86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wind that sometimes looks like a funnel and can do a lot of damage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rna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7" descr="Tornado"/>
          <p:cNvPicPr/>
          <p:nvPr/>
        </p:nvPicPr>
        <p:blipFill>
          <a:blip r:embed="rId4"/>
          <a:stretch/>
        </p:blipFill>
        <p:spPr>
          <a:xfrm>
            <a:off x="380880" y="3505320"/>
            <a:ext cx="304344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019920" y="5029200"/>
            <a:ext cx="2361960" cy="1828800"/>
          </a:xfrm>
          <a:custGeom>
            <a:avLst/>
            <a:gdLst>
              <a:gd name="textAreaLeft" fmla="*/ 118440 w 2361960"/>
              <a:gd name="textAreaRight" fmla="*/ 2243520 w 23619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896" h="21600">
                <a:moveTo>
                  <a:pt x="0" y="0"/>
                </a:moveTo>
                <a:lnTo>
                  <a:pt x="27896" y="0"/>
                </a:lnTo>
                <a:lnTo>
                  <a:pt x="27896" y="21600"/>
                </a:lnTo>
                <a:lnTo>
                  <a:pt x="0" y="21600"/>
                </a:lnTo>
                <a:close/>
              </a:path>
              <a:path fill="lightenLess" w="27896" h="21600">
                <a:moveTo>
                  <a:pt x="0" y="0"/>
                </a:moveTo>
                <a:lnTo>
                  <a:pt x="27896" y="0"/>
                </a:lnTo>
                <a:lnTo>
                  <a:pt x="26496" y="1400"/>
                </a:lnTo>
                <a:lnTo>
                  <a:pt x="1400" y="1400"/>
                </a:lnTo>
                <a:close/>
              </a:path>
              <a:path fill="darken" w="27896" h="21600">
                <a:moveTo>
                  <a:pt x="27896" y="0"/>
                </a:moveTo>
                <a:lnTo>
                  <a:pt x="27896" y="21600"/>
                </a:lnTo>
                <a:lnTo>
                  <a:pt x="26496" y="20200"/>
                </a:lnTo>
                <a:lnTo>
                  <a:pt x="26496" y="1400"/>
                </a:lnTo>
                <a:close/>
              </a:path>
              <a:path fill="darkenLess" w="27896" h="21600">
                <a:moveTo>
                  <a:pt x="27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6" y="20200"/>
                </a:lnTo>
                <a:close/>
              </a:path>
              <a:path fill="lighten" w="27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6" h="21600">
                <a:moveTo>
                  <a:pt x="13948" y="3837"/>
                </a:moveTo>
                <a:lnTo>
                  <a:pt x="16524" y="6448"/>
                </a:ln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lnTo>
                  <a:pt x="20911" y="10800"/>
                </a:lnTo>
                <a:lnTo>
                  <a:pt x="19257" y="10800"/>
                </a:lnTo>
                <a:lnTo>
                  <a:pt x="19257" y="17989"/>
                </a:lnTo>
                <a:lnTo>
                  <a:pt x="8639" y="17989"/>
                </a:lnTo>
                <a:lnTo>
                  <a:pt x="8639" y="10800"/>
                </a:lnTo>
                <a:lnTo>
                  <a:pt x="6985" y="10800"/>
                </a:lnTo>
                <a:close/>
              </a:path>
              <a:path fill="darkenLess" w="27896" h="21600">
                <a:moveTo>
                  <a:pt x="16524" y="6448"/>
                </a:moveTo>
                <a:lnTo>
                  <a:pt x="16524" y="4707"/>
                </a:lnTo>
                <a:lnTo>
                  <a:pt x="18300" y="4707"/>
                </a:lnTo>
                <a:lnTo>
                  <a:pt x="18300" y="8224"/>
                </a:lnTo>
                <a:close/>
              </a:path>
              <a:path fill="darkenLess" w="27896" h="21600">
                <a:moveTo>
                  <a:pt x="13025" y="14299"/>
                </a:moveTo>
                <a:lnTo>
                  <a:pt x="14871" y="14299"/>
                </a:lnTo>
                <a:lnTo>
                  <a:pt x="14871" y="17989"/>
                </a:lnTo>
                <a:lnTo>
                  <a:pt x="19257" y="17989"/>
                </a:lnTo>
                <a:lnTo>
                  <a:pt x="19257" y="10800"/>
                </a:lnTo>
                <a:lnTo>
                  <a:pt x="8639" y="10800"/>
                </a:lnTo>
                <a:lnTo>
                  <a:pt x="8639" y="17989"/>
                </a:lnTo>
                <a:lnTo>
                  <a:pt x="13025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90720" y="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ou just outsmarted 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6553080" y="457200"/>
            <a:ext cx="1293840" cy="4543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60958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" action="ppaction://hlinkshowjump?jump=nextslide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iz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Thunder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>
            <a:hlinkClick r:id="rId1" action="ppaction://hlinksldjump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urri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8915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orm where there is a lot of rain and wind that can knock down trees and cause flooding is called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urrica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7" descr=""/>
          <p:cNvPicPr/>
          <p:nvPr/>
        </p:nvPicPr>
        <p:blipFill>
          <a:blip r:embed="rId4"/>
          <a:stretch/>
        </p:blipFill>
        <p:spPr>
          <a:xfrm>
            <a:off x="1066680" y="3060720"/>
            <a:ext cx="507996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838080" y="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rill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2971800" y="2139840"/>
            <a:ext cx="3219480" cy="2703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" action="ppaction://hlinkshowjump?jump=nextslide"/>
          </p:cNvPr>
          <p:cNvSpPr/>
          <p:nvPr/>
        </p:nvSpPr>
        <p:spPr>
          <a:xfrm>
            <a:off x="5943600" y="38862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">
            <a:hlinkClick r:id="" action="ppaction://hlinkshowjump?jump=nextslide"/>
          </p:cNvPr>
          <p:cNvSpPr/>
          <p:nvPr/>
        </p:nvSpPr>
        <p:spPr>
          <a:xfrm>
            <a:off x="5943600" y="28954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">
            <a:hlinkClick r:id="rId1" action="ppaction://hlinksldjump"/>
          </p:cNvPr>
          <p:cNvSpPr/>
          <p:nvPr/>
        </p:nvSpPr>
        <p:spPr>
          <a:xfrm>
            <a:off x="5943600" y="48769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5943600" y="58672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 is a tool used to show the direction the wind is blowing (North, South, East, or West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475920" y="7196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8600" y="457200"/>
            <a:ext cx="662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rId1" action="ppaction://hlinksldjump"/>
          </p:cNvPr>
          <p:cNvSpPr/>
          <p:nvPr/>
        </p:nvSpPr>
        <p:spPr>
          <a:xfrm>
            <a:off x="6248520" y="167652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6248520" y="43434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6248520" y="34290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6248520" y="25146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28600" y="4572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5 Topic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gopher1"/>
          <p:cNvPicPr/>
          <p:nvPr/>
        </p:nvPicPr>
        <p:blipFill>
          <a:blip r:embed="rId2"/>
          <a:stretch/>
        </p:blipFill>
        <p:spPr>
          <a:xfrm>
            <a:off x="3862440" y="2438280"/>
            <a:ext cx="101268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4"/>
          <p:cNvSpPr txBox="1"/>
          <p:nvPr/>
        </p:nvSpPr>
        <p:spPr>
          <a:xfrm>
            <a:off x="1371600" y="7621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ol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Text Box 7">
            <a:hlinkClick r:id="rId3"/>
          </p:cNvPr>
          <p:cNvSpPr/>
          <p:nvPr/>
        </p:nvSpPr>
        <p:spPr>
          <a:xfrm>
            <a:off x="632448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>
            <a:hlinkClick r:id="rId1" action="ppaction://hlinksldjump"/>
          </p:cNvPr>
          <p:cNvSpPr/>
          <p:nvPr/>
        </p:nvSpPr>
        <p:spPr>
          <a:xfrm>
            <a:off x="6553080" y="16002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28600" y="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6553080" y="525780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6553080" y="4038480"/>
            <a:ext cx="2590920" cy="121932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1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1" y="20200"/>
                </a:lnTo>
                <a:lnTo>
                  <a:pt x="44491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1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>
            <a:hlinkClick r:id="" action="ppaction://hlinkshowjump?jump=nextslide"/>
          </p:cNvPr>
          <p:cNvSpPr/>
          <p:nvPr/>
        </p:nvSpPr>
        <p:spPr>
          <a:xfrm>
            <a:off x="6553080" y="2819520"/>
            <a:ext cx="2590920" cy="1218960"/>
          </a:xfrm>
          <a:custGeom>
            <a:avLst/>
            <a:gdLst>
              <a:gd name="textAreaLeft" fmla="*/ 78840 w 2590920"/>
              <a:gd name="textAreaRight" fmla="*/ 2512080 w 2590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5904" h="21600">
                <a:moveTo>
                  <a:pt x="0" y="0"/>
                </a:moveTo>
                <a:lnTo>
                  <a:pt x="45904" y="0"/>
                </a:lnTo>
                <a:lnTo>
                  <a:pt x="45904" y="21600"/>
                </a:lnTo>
                <a:lnTo>
                  <a:pt x="0" y="21600"/>
                </a:lnTo>
                <a:close/>
              </a:path>
              <a:path fill="lightenLess" w="45904" h="21600">
                <a:moveTo>
                  <a:pt x="0" y="0"/>
                </a:moveTo>
                <a:lnTo>
                  <a:pt x="45904" y="0"/>
                </a:lnTo>
                <a:lnTo>
                  <a:pt x="44504" y="1400"/>
                </a:lnTo>
                <a:lnTo>
                  <a:pt x="1400" y="1400"/>
                </a:lnTo>
                <a:close/>
              </a:path>
              <a:path fill="darken" w="45904" h="21600">
                <a:moveTo>
                  <a:pt x="45904" y="0"/>
                </a:moveTo>
                <a:lnTo>
                  <a:pt x="45904" y="21600"/>
                </a:lnTo>
                <a:lnTo>
                  <a:pt x="44504" y="20200"/>
                </a:lnTo>
                <a:lnTo>
                  <a:pt x="44504" y="1400"/>
                </a:lnTo>
                <a:close/>
              </a:path>
              <a:path fill="darkenLess" w="45904" h="21600">
                <a:moveTo>
                  <a:pt x="4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4" y="20200"/>
                </a:lnTo>
                <a:close/>
              </a:path>
              <a:path fill="lighten" w="4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28600" y="45720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igr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when an animal leaves its habitat in the fall to go to a warmer place in order to meet its basic nee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6">
            <a:hlinkClick r:id="rId1" action="ppaction://hlinksldjump"/>
          </p:cNvPr>
          <p:cNvSpPr/>
          <p:nvPr/>
        </p:nvSpPr>
        <p:spPr>
          <a:xfrm>
            <a:off x="69343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"/>
          <p:cNvPicPr/>
          <p:nvPr/>
        </p:nvPicPr>
        <p:blipFill>
          <a:blip r:embed="rId4"/>
          <a:stretch/>
        </p:blipFill>
        <p:spPr>
          <a:xfrm>
            <a:off x="1600200" y="2438280"/>
            <a:ext cx="4105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SonicHh"/>
          <p:cNvPicPr/>
          <p:nvPr/>
        </p:nvPicPr>
        <p:blipFill>
          <a:blip r:embed="rId2"/>
          <a:stretch/>
        </p:blipFill>
        <p:spPr>
          <a:xfrm>
            <a:off x="3200400" y="2666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4"/>
          <p:cNvSpPr txBox="1"/>
          <p:nvPr/>
        </p:nvSpPr>
        <p:spPr>
          <a:xfrm>
            <a:off x="190440" y="533520"/>
            <a:ext cx="85726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're super good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can you keep up with me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" y="457200"/>
            <a:ext cx="563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>
            <a:hlinkClick r:id="" action="ppaction://hlinkshowjump?jump=nextslide"/>
          </p:cNvPr>
          <p:cNvSpPr/>
          <p:nvPr/>
        </p:nvSpPr>
        <p:spPr>
          <a:xfrm>
            <a:off x="5943600" y="16002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Bl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" action="ppaction://hlinkshowjump?jump=nextslide"/>
          </p:cNvPr>
          <p:cNvSpPr/>
          <p:nvPr/>
        </p:nvSpPr>
        <p:spPr>
          <a:xfrm>
            <a:off x="5943600" y="525780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5943600" y="4038480"/>
            <a:ext cx="3200400" cy="121932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6684" h="21600">
                <a:moveTo>
                  <a:pt x="0" y="0"/>
                </a:moveTo>
                <a:lnTo>
                  <a:pt x="56684" y="0"/>
                </a:lnTo>
                <a:lnTo>
                  <a:pt x="56684" y="21600"/>
                </a:lnTo>
                <a:lnTo>
                  <a:pt x="0" y="21600"/>
                </a:lnTo>
                <a:close/>
              </a:path>
              <a:path fill="lightenLess" w="56684" h="21600">
                <a:moveTo>
                  <a:pt x="0" y="0"/>
                </a:moveTo>
                <a:lnTo>
                  <a:pt x="56684" y="0"/>
                </a:lnTo>
                <a:lnTo>
                  <a:pt x="55284" y="1400"/>
                </a:lnTo>
                <a:lnTo>
                  <a:pt x="1400" y="1400"/>
                </a:lnTo>
                <a:close/>
              </a:path>
              <a:path fill="darken" w="56684" h="21600">
                <a:moveTo>
                  <a:pt x="56684" y="0"/>
                </a:moveTo>
                <a:lnTo>
                  <a:pt x="56684" y="21600"/>
                </a:lnTo>
                <a:lnTo>
                  <a:pt x="55284" y="20200"/>
                </a:lnTo>
                <a:lnTo>
                  <a:pt x="55284" y="1400"/>
                </a:lnTo>
                <a:close/>
              </a:path>
              <a:path fill="darkenLess" w="56684" h="21600">
                <a:moveTo>
                  <a:pt x="56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84" y="20200"/>
                </a:lnTo>
                <a:close/>
              </a:path>
              <a:path fill="lighten" w="56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>
            <a:hlinkClick r:id="" action="ppaction://hlinkshowjump?jump=nextslide"/>
          </p:cNvPr>
          <p:cNvSpPr/>
          <p:nvPr/>
        </p:nvSpPr>
        <p:spPr>
          <a:xfrm>
            <a:off x="5943600" y="2819520"/>
            <a:ext cx="3200400" cy="1218960"/>
          </a:xfrm>
          <a:custGeom>
            <a:avLst/>
            <a:gdLst>
              <a:gd name="textAreaLeft" fmla="*/ 78840 w 3200400"/>
              <a:gd name="textAreaRight" fmla="*/ 3121560 w 3200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6701" h="21600">
                <a:moveTo>
                  <a:pt x="0" y="0"/>
                </a:moveTo>
                <a:lnTo>
                  <a:pt x="56701" y="0"/>
                </a:lnTo>
                <a:lnTo>
                  <a:pt x="56701" y="21600"/>
                </a:lnTo>
                <a:lnTo>
                  <a:pt x="0" y="21600"/>
                </a:lnTo>
                <a:close/>
              </a:path>
              <a:path fill="lightenLess" w="56701" h="21600">
                <a:moveTo>
                  <a:pt x="0" y="0"/>
                </a:moveTo>
                <a:lnTo>
                  <a:pt x="56701" y="0"/>
                </a:lnTo>
                <a:lnTo>
                  <a:pt x="55301" y="1400"/>
                </a:lnTo>
                <a:lnTo>
                  <a:pt x="1400" y="1400"/>
                </a:lnTo>
                <a:close/>
              </a:path>
              <a:path fill="darken" w="56701" h="21600">
                <a:moveTo>
                  <a:pt x="56701" y="0"/>
                </a:moveTo>
                <a:lnTo>
                  <a:pt x="56701" y="21600"/>
                </a:lnTo>
                <a:lnTo>
                  <a:pt x="55301" y="20200"/>
                </a:lnTo>
                <a:lnTo>
                  <a:pt x="55301" y="1400"/>
                </a:lnTo>
                <a:close/>
              </a:path>
              <a:path fill="darkenLess" w="56701" h="21600">
                <a:moveTo>
                  <a:pt x="56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1" y="20200"/>
                </a:lnTo>
                <a:close/>
              </a:path>
              <a:path fill="lighten" w="56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28600" y="4572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rmanc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when a plant’s growth slows down showing no signs of a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6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4"/>
          <a:stretch/>
        </p:blipFill>
        <p:spPr>
          <a:xfrm>
            <a:off x="2182680" y="2666880"/>
            <a:ext cx="3113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6324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304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Times New Roman"/>
              </a:rPr>
              <a:t>You’re bouncing along well!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2538360" y="1219320"/>
            <a:ext cx="3348000" cy="3638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>
            <a:hlinkClick r:id="" action="ppaction://hlinkshowjump?jump=nextslide"/>
          </p:cNvPr>
          <p:cNvSpPr/>
          <p:nvPr/>
        </p:nvSpPr>
        <p:spPr>
          <a:xfrm>
            <a:off x="5410080" y="1219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Dorm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28600" y="457200"/>
            <a:ext cx="51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nextslide"/>
          </p:cNvPr>
          <p:cNvSpPr/>
          <p:nvPr/>
        </p:nvSpPr>
        <p:spPr>
          <a:xfrm>
            <a:off x="5410080" y="2362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5410080" y="3505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>
            <a:off x="5410080" y="4648320"/>
            <a:ext cx="3733920" cy="1143000"/>
          </a:xfrm>
          <a:custGeom>
            <a:avLst/>
            <a:gdLst>
              <a:gd name="textAreaLeft" fmla="*/ 73800 w 3733920"/>
              <a:gd name="textAreaRight" fmla="*/ 3660120 w 37339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70547" h="21600">
                <a:moveTo>
                  <a:pt x="0" y="0"/>
                </a:moveTo>
                <a:lnTo>
                  <a:pt x="70547" y="0"/>
                </a:lnTo>
                <a:lnTo>
                  <a:pt x="70547" y="21600"/>
                </a:lnTo>
                <a:lnTo>
                  <a:pt x="0" y="21600"/>
                </a:lnTo>
                <a:close/>
              </a:path>
              <a:path fill="lightenLess" w="70547" h="21600">
                <a:moveTo>
                  <a:pt x="0" y="0"/>
                </a:moveTo>
                <a:lnTo>
                  <a:pt x="70547" y="0"/>
                </a:lnTo>
                <a:lnTo>
                  <a:pt x="69147" y="1400"/>
                </a:lnTo>
                <a:lnTo>
                  <a:pt x="1400" y="1400"/>
                </a:lnTo>
                <a:close/>
              </a:path>
              <a:path fill="darken" w="70547" h="21600">
                <a:moveTo>
                  <a:pt x="70547" y="0"/>
                </a:moveTo>
                <a:lnTo>
                  <a:pt x="70547" y="21600"/>
                </a:lnTo>
                <a:lnTo>
                  <a:pt x="69147" y="20200"/>
                </a:lnTo>
                <a:lnTo>
                  <a:pt x="69147" y="1400"/>
                </a:lnTo>
                <a:close/>
              </a:path>
              <a:path fill="darkenLess" w="70547" h="21600">
                <a:moveTo>
                  <a:pt x="70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147" y="20200"/>
                </a:lnTo>
                <a:close/>
              </a:path>
              <a:path fill="lighten" w="70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amoufl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ather va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show the direction the wind is blowing (North, South, East, or Wes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3" descr="weathervane"/>
          <p:cNvPicPr/>
          <p:nvPr/>
        </p:nvPicPr>
        <p:blipFill>
          <a:blip r:embed="rId4"/>
          <a:stretch/>
        </p:blipFill>
        <p:spPr>
          <a:xfrm>
            <a:off x="3411360" y="1600200"/>
            <a:ext cx="186876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28600" y="45720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blends in with its surrounding habitat, i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mouflag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5">
            <a:hlinkClick r:id="rId1" action="ppaction://hlinksldjump"/>
          </p:cNvPr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6" descr=""/>
          <p:cNvPicPr/>
          <p:nvPr/>
        </p:nvPicPr>
        <p:blipFill>
          <a:blip r:embed="rId4"/>
          <a:stretch/>
        </p:blipFill>
        <p:spPr>
          <a:xfrm>
            <a:off x="0" y="365760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"/>
          <p:cNvPicPr/>
          <p:nvPr/>
        </p:nvPicPr>
        <p:blipFill>
          <a:blip r:embed="rId5"/>
          <a:stretch/>
        </p:blipFill>
        <p:spPr>
          <a:xfrm>
            <a:off x="4419720" y="3505320"/>
            <a:ext cx="23652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" descr="multicoloredbear"/>
          <p:cNvPicPr/>
          <p:nvPr/>
        </p:nvPicPr>
        <p:blipFill>
          <a:blip r:embed="rId2"/>
          <a:stretch/>
        </p:blipFill>
        <p:spPr>
          <a:xfrm>
            <a:off x="3581280" y="2819520"/>
            <a:ext cx="2124360" cy="18158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4"/>
          <p:cNvSpPr txBox="1"/>
          <p:nvPr/>
        </p:nvSpPr>
        <p:spPr>
          <a:xfrm>
            <a:off x="990720" y="6094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ucky Gues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3leafclov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28600" y="457200"/>
            <a:ext cx="586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3">
            <a:hlinkClick r:id="" action="ppaction://hlinkshowjump?jump=nextslide"/>
          </p:cNvPr>
          <p:cNvSpPr/>
          <p:nvPr/>
        </p:nvSpPr>
        <p:spPr>
          <a:xfrm>
            <a:off x="6172200" y="14479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amouf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>
            <a:hlinkClick r:id="rId1" action="ppaction://hlinksldjump"/>
          </p:cNvPr>
          <p:cNvSpPr/>
          <p:nvPr/>
        </p:nvSpPr>
        <p:spPr>
          <a:xfrm>
            <a:off x="6172200" y="251460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6172200" y="4648320"/>
            <a:ext cx="2971800" cy="1143000"/>
          </a:xfrm>
          <a:custGeom>
            <a:avLst/>
            <a:gdLst>
              <a:gd name="textAreaLeft" fmla="*/ 73800 w 2971800"/>
              <a:gd name="textAreaRight" fmla="*/ 2898000 w 2971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6149" h="21600">
                <a:moveTo>
                  <a:pt x="0" y="0"/>
                </a:moveTo>
                <a:lnTo>
                  <a:pt x="56149" y="0"/>
                </a:lnTo>
                <a:lnTo>
                  <a:pt x="56149" y="21600"/>
                </a:lnTo>
                <a:lnTo>
                  <a:pt x="0" y="21600"/>
                </a:lnTo>
                <a:close/>
              </a:path>
              <a:path fill="lightenLess" w="56149" h="21600">
                <a:moveTo>
                  <a:pt x="0" y="0"/>
                </a:moveTo>
                <a:lnTo>
                  <a:pt x="56149" y="0"/>
                </a:lnTo>
                <a:lnTo>
                  <a:pt x="54749" y="1400"/>
                </a:lnTo>
                <a:lnTo>
                  <a:pt x="1400" y="1400"/>
                </a:lnTo>
                <a:close/>
              </a:path>
              <a:path fill="darken" w="56149" h="21600">
                <a:moveTo>
                  <a:pt x="56149" y="0"/>
                </a:moveTo>
                <a:lnTo>
                  <a:pt x="56149" y="21600"/>
                </a:lnTo>
                <a:lnTo>
                  <a:pt x="54749" y="20200"/>
                </a:lnTo>
                <a:lnTo>
                  <a:pt x="54749" y="1400"/>
                </a:lnTo>
                <a:close/>
              </a:path>
              <a:path fill="darkenLess" w="56149" h="21600">
                <a:moveTo>
                  <a:pt x="56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9" y="20200"/>
                </a:lnTo>
                <a:close/>
              </a:path>
              <a:path fill="lighten" w="56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6">
            <a:hlinkClick r:id="" action="ppaction://hlinkshowjump?jump=nextslide"/>
          </p:cNvPr>
          <p:cNvSpPr/>
          <p:nvPr/>
        </p:nvSpPr>
        <p:spPr>
          <a:xfrm>
            <a:off x="6172200" y="3657600"/>
            <a:ext cx="2971800" cy="1066680"/>
          </a:xfrm>
          <a:custGeom>
            <a:avLst/>
            <a:gdLst>
              <a:gd name="textAreaLeft" fmla="*/ 69120 w 2971800"/>
              <a:gd name="textAreaRight" fmla="*/ 2902680 w 2971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0165" h="21600">
                <a:moveTo>
                  <a:pt x="0" y="0"/>
                </a:moveTo>
                <a:lnTo>
                  <a:pt x="60165" y="0"/>
                </a:lnTo>
                <a:lnTo>
                  <a:pt x="60165" y="21600"/>
                </a:lnTo>
                <a:lnTo>
                  <a:pt x="0" y="21600"/>
                </a:lnTo>
                <a:close/>
              </a:path>
              <a:path fill="lightenLess" w="60165" h="21600">
                <a:moveTo>
                  <a:pt x="0" y="0"/>
                </a:moveTo>
                <a:lnTo>
                  <a:pt x="60165" y="0"/>
                </a:lnTo>
                <a:lnTo>
                  <a:pt x="58765" y="1400"/>
                </a:lnTo>
                <a:lnTo>
                  <a:pt x="1400" y="1400"/>
                </a:lnTo>
                <a:close/>
              </a:path>
              <a:path fill="darken" w="60165" h="21600">
                <a:moveTo>
                  <a:pt x="60165" y="0"/>
                </a:moveTo>
                <a:lnTo>
                  <a:pt x="60165" y="21600"/>
                </a:lnTo>
                <a:lnTo>
                  <a:pt x="58765" y="20200"/>
                </a:lnTo>
                <a:lnTo>
                  <a:pt x="58765" y="1400"/>
                </a:lnTo>
                <a:close/>
              </a:path>
              <a:path fill="darkenLess" w="60165" h="21600">
                <a:moveTo>
                  <a:pt x="60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65" y="20200"/>
                </a:lnTo>
                <a:close/>
              </a:path>
              <a:path fill="lighten" w="60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n animal spends the winter sleeping, it is calle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bern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6">
            <a:hlinkClick r:id="rId1" action="ppaction://hlinksldjump"/>
          </p:cNvPr>
          <p:cNvSpPr/>
          <p:nvPr/>
        </p:nvSpPr>
        <p:spPr>
          <a:xfrm>
            <a:off x="64008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7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419112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odie_-_gerfield"/>
          <p:cNvPicPr/>
          <p:nvPr/>
        </p:nvPicPr>
        <p:blipFill>
          <a:blip r:embed="rId2"/>
          <a:stretch/>
        </p:blipFill>
        <p:spPr>
          <a:xfrm>
            <a:off x="1905120" y="1066680"/>
            <a:ext cx="2603520" cy="3619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57200" y="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ou are so 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>
            <a:hlinkClick r:id="rId3"/>
          </p:cNvPr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28600" y="4572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60020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 Topic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>
            <a:hlinkClick r:id="" action="ppaction://hlinkshowjump?jump=nextslide"/>
          </p:cNvPr>
          <p:cNvSpPr/>
          <p:nvPr/>
        </p:nvSpPr>
        <p:spPr>
          <a:xfrm>
            <a:off x="4343400" y="25146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4343400" y="358128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>
            <a:hlinkClick r:id="" action="ppaction://hlinkshowjump?jump=nextslide"/>
          </p:cNvPr>
          <p:cNvSpPr/>
          <p:nvPr/>
        </p:nvSpPr>
        <p:spPr>
          <a:xfrm>
            <a:off x="4343400" y="5715000"/>
            <a:ext cx="4800600" cy="1143000"/>
          </a:xfrm>
          <a:custGeom>
            <a:avLst/>
            <a:gdLst>
              <a:gd name="textAreaLeft" fmla="*/ 73800 w 4800600"/>
              <a:gd name="textAreaRight" fmla="*/ 4726800 w 4800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90698" h="21600">
                <a:moveTo>
                  <a:pt x="0" y="0"/>
                </a:moveTo>
                <a:lnTo>
                  <a:pt x="90698" y="0"/>
                </a:lnTo>
                <a:lnTo>
                  <a:pt x="90698" y="21600"/>
                </a:lnTo>
                <a:lnTo>
                  <a:pt x="0" y="21600"/>
                </a:lnTo>
                <a:close/>
              </a:path>
              <a:path fill="lightenLess" w="90698" h="21600">
                <a:moveTo>
                  <a:pt x="0" y="0"/>
                </a:moveTo>
                <a:lnTo>
                  <a:pt x="90698" y="0"/>
                </a:lnTo>
                <a:lnTo>
                  <a:pt x="89298" y="1400"/>
                </a:lnTo>
                <a:lnTo>
                  <a:pt x="1400" y="1400"/>
                </a:lnTo>
                <a:close/>
              </a:path>
              <a:path fill="darken" w="90698" h="21600">
                <a:moveTo>
                  <a:pt x="90698" y="0"/>
                </a:moveTo>
                <a:lnTo>
                  <a:pt x="90698" y="21600"/>
                </a:lnTo>
                <a:lnTo>
                  <a:pt x="89298" y="20200"/>
                </a:lnTo>
                <a:lnTo>
                  <a:pt x="89298" y="1400"/>
                </a:lnTo>
                <a:close/>
              </a:path>
              <a:path fill="darkenLess" w="90698" h="21600">
                <a:moveTo>
                  <a:pt x="90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98" y="20200"/>
                </a:lnTo>
                <a:close/>
              </a:path>
              <a:path fill="lighten" w="90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7">
            <a:hlinkClick r:id="rId1" action="ppaction://hlinksldjump"/>
          </p:cNvPr>
          <p:cNvSpPr/>
          <p:nvPr/>
        </p:nvSpPr>
        <p:spPr>
          <a:xfrm>
            <a:off x="4343400" y="4724280"/>
            <a:ext cx="4800600" cy="1067040"/>
          </a:xfrm>
          <a:custGeom>
            <a:avLst/>
            <a:gdLst>
              <a:gd name="textAreaLeft" fmla="*/ 69120 w 4800600"/>
              <a:gd name="textAreaRight" fmla="*/ 4731480 w 4800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97153" h="21600">
                <a:moveTo>
                  <a:pt x="0" y="0"/>
                </a:moveTo>
                <a:lnTo>
                  <a:pt x="97153" y="0"/>
                </a:lnTo>
                <a:lnTo>
                  <a:pt x="97153" y="21600"/>
                </a:lnTo>
                <a:lnTo>
                  <a:pt x="0" y="21600"/>
                </a:lnTo>
                <a:close/>
              </a:path>
              <a:path fill="lightenLess" w="97153" h="21600">
                <a:moveTo>
                  <a:pt x="0" y="0"/>
                </a:moveTo>
                <a:lnTo>
                  <a:pt x="97153" y="0"/>
                </a:lnTo>
                <a:lnTo>
                  <a:pt x="95753" y="1400"/>
                </a:lnTo>
                <a:lnTo>
                  <a:pt x="1400" y="1400"/>
                </a:lnTo>
                <a:close/>
              </a:path>
              <a:path fill="darken" w="97153" h="21600">
                <a:moveTo>
                  <a:pt x="97153" y="0"/>
                </a:moveTo>
                <a:lnTo>
                  <a:pt x="97153" y="21600"/>
                </a:lnTo>
                <a:lnTo>
                  <a:pt x="95753" y="20200"/>
                </a:lnTo>
                <a:lnTo>
                  <a:pt x="95753" y="1400"/>
                </a:lnTo>
                <a:close/>
              </a:path>
              <a:path fill="darkenLess" w="97153" h="21600">
                <a:moveTo>
                  <a:pt x="97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53" y="20200"/>
                </a:lnTo>
                <a:close/>
              </a:path>
              <a:path fill="lighten" w="97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2550960" cy="27972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7"/>
          <p:cNvSpPr txBox="1"/>
          <p:nvPr/>
        </p:nvSpPr>
        <p:spPr>
          <a:xfrm>
            <a:off x="0" y="0"/>
            <a:ext cx="9144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Your climbing so high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Text Box 10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>
            <a:hlinkClick r:id="" action="ppaction://hlinkshowjump?jump=nextslide"/>
          </p:cNvPr>
          <p:cNvSpPr/>
          <p:nvPr/>
        </p:nvSpPr>
        <p:spPr>
          <a:xfrm>
            <a:off x="4419720" y="297180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nextslide"/>
          </p:cNvPr>
          <p:cNvSpPr/>
          <p:nvPr/>
        </p:nvSpPr>
        <p:spPr>
          <a:xfrm>
            <a:off x="4419720" y="3962520"/>
            <a:ext cx="4724280" cy="914400"/>
          </a:xfrm>
          <a:custGeom>
            <a:avLst/>
            <a:gdLst>
              <a:gd name="textAreaLeft" fmla="*/ 59040 w 4724280"/>
              <a:gd name="textAreaRight" fmla="*/ 4665240 w 4724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1562" h="21600">
                <a:moveTo>
                  <a:pt x="0" y="0"/>
                </a:moveTo>
                <a:lnTo>
                  <a:pt x="111562" y="0"/>
                </a:lnTo>
                <a:lnTo>
                  <a:pt x="111562" y="21600"/>
                </a:lnTo>
                <a:lnTo>
                  <a:pt x="0" y="21600"/>
                </a:lnTo>
                <a:close/>
              </a:path>
              <a:path fill="lightenLess" w="111562" h="21600">
                <a:moveTo>
                  <a:pt x="0" y="0"/>
                </a:moveTo>
                <a:lnTo>
                  <a:pt x="111562" y="0"/>
                </a:lnTo>
                <a:lnTo>
                  <a:pt x="110162" y="1400"/>
                </a:lnTo>
                <a:lnTo>
                  <a:pt x="1400" y="1400"/>
                </a:lnTo>
                <a:close/>
              </a:path>
              <a:path fill="darken" w="111562" h="21600">
                <a:moveTo>
                  <a:pt x="111562" y="0"/>
                </a:moveTo>
                <a:lnTo>
                  <a:pt x="111562" y="21600"/>
                </a:lnTo>
                <a:lnTo>
                  <a:pt x="110162" y="20200"/>
                </a:lnTo>
                <a:lnTo>
                  <a:pt x="110162" y="1400"/>
                </a:lnTo>
                <a:close/>
              </a:path>
              <a:path fill="darkenLess" w="111562" h="21600">
                <a:moveTo>
                  <a:pt x="111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62" y="20200"/>
                </a:lnTo>
                <a:close/>
              </a:path>
              <a:path fill="lighten" w="111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419720" y="4876920"/>
            <a:ext cx="4724280" cy="99036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3008" h="21600">
                <a:moveTo>
                  <a:pt x="0" y="0"/>
                </a:moveTo>
                <a:lnTo>
                  <a:pt x="103008" y="0"/>
                </a:lnTo>
                <a:lnTo>
                  <a:pt x="103008" y="21600"/>
                </a:lnTo>
                <a:lnTo>
                  <a:pt x="0" y="21600"/>
                </a:lnTo>
                <a:close/>
              </a:path>
              <a:path fill="lightenLess" w="103008" h="21600">
                <a:moveTo>
                  <a:pt x="0" y="0"/>
                </a:moveTo>
                <a:lnTo>
                  <a:pt x="103008" y="0"/>
                </a:lnTo>
                <a:lnTo>
                  <a:pt x="101608" y="1400"/>
                </a:lnTo>
                <a:lnTo>
                  <a:pt x="1400" y="1400"/>
                </a:lnTo>
                <a:close/>
              </a:path>
              <a:path fill="darken" w="103008" h="21600">
                <a:moveTo>
                  <a:pt x="103008" y="0"/>
                </a:moveTo>
                <a:lnTo>
                  <a:pt x="103008" y="21600"/>
                </a:lnTo>
                <a:lnTo>
                  <a:pt x="101608" y="20200"/>
                </a:lnTo>
                <a:lnTo>
                  <a:pt x="101608" y="1400"/>
                </a:lnTo>
                <a:close/>
              </a:path>
              <a:path fill="darkenLess" w="103008" h="21600">
                <a:moveTo>
                  <a:pt x="103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08" y="20200"/>
                </a:lnTo>
                <a:close/>
              </a:path>
              <a:path fill="lighten" w="103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4419720" y="5867280"/>
            <a:ext cx="4724280" cy="990720"/>
          </a:xfrm>
          <a:custGeom>
            <a:avLst/>
            <a:gdLst>
              <a:gd name="textAreaLeft" fmla="*/ 64080 w 4724280"/>
              <a:gd name="textAreaRight" fmla="*/ 4660200 w 4724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2971" h="21600">
                <a:moveTo>
                  <a:pt x="0" y="0"/>
                </a:moveTo>
                <a:lnTo>
                  <a:pt x="102971" y="0"/>
                </a:lnTo>
                <a:lnTo>
                  <a:pt x="102971" y="21600"/>
                </a:lnTo>
                <a:lnTo>
                  <a:pt x="0" y="21600"/>
                </a:lnTo>
                <a:close/>
              </a:path>
              <a:path fill="lightenLess" w="102971" h="21600">
                <a:moveTo>
                  <a:pt x="0" y="0"/>
                </a:moveTo>
                <a:lnTo>
                  <a:pt x="102971" y="0"/>
                </a:lnTo>
                <a:lnTo>
                  <a:pt x="101571" y="1400"/>
                </a:lnTo>
                <a:lnTo>
                  <a:pt x="1400" y="1400"/>
                </a:lnTo>
                <a:close/>
              </a:path>
              <a:path fill="darken" w="102971" h="21600">
                <a:moveTo>
                  <a:pt x="102971" y="0"/>
                </a:moveTo>
                <a:lnTo>
                  <a:pt x="102971" y="21600"/>
                </a:lnTo>
                <a:lnTo>
                  <a:pt x="101571" y="20200"/>
                </a:lnTo>
                <a:lnTo>
                  <a:pt x="101571" y="1400"/>
                </a:lnTo>
                <a:close/>
              </a:path>
              <a:path fill="darkenLess" w="102971" h="21600">
                <a:moveTo>
                  <a:pt x="102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571" y="20200"/>
                </a:lnTo>
                <a:close/>
              </a:path>
              <a:path fill="lighten" w="102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 1 Topic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ani_cat"/>
          <p:cNvPicPr/>
          <p:nvPr/>
        </p:nvPicPr>
        <p:blipFill>
          <a:blip r:embed="rId1"/>
          <a:stretch/>
        </p:blipFill>
        <p:spPr>
          <a:xfrm>
            <a:off x="3429000" y="2514600"/>
            <a:ext cx="217188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2209680" y="609480"/>
            <a:ext cx="46198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ou’re too good to ca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8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grover"/>
          <p:cNvPicPr/>
          <p:nvPr/>
        </p:nvPicPr>
        <p:blipFill>
          <a:blip r:embed="rId2"/>
          <a:stretch/>
        </p:blipFill>
        <p:spPr>
          <a:xfrm>
            <a:off x="1752480" y="990720"/>
            <a:ext cx="2770200" cy="38862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4"/>
          <p:cNvSpPr txBox="1"/>
          <p:nvPr/>
        </p:nvSpPr>
        <p:spPr>
          <a:xfrm>
            <a:off x="114300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rvelou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6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304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Answer 2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pinkpanther"/>
          <p:cNvPicPr/>
          <p:nvPr/>
        </p:nvPicPr>
        <p:blipFill>
          <a:blip r:embed="rId2"/>
          <a:stretch/>
        </p:blipFill>
        <p:spPr>
          <a:xfrm>
            <a:off x="1905120" y="2057400"/>
            <a:ext cx="2369880" cy="2976480"/>
          </a:xfrm>
          <a:prstGeom prst="rect">
            <a:avLst/>
          </a:prstGeom>
          <a:ln w="0">
            <a:noFill/>
          </a:ln>
        </p:spPr>
      </p:pic>
      <p:sp>
        <p:nvSpPr>
          <p:cNvPr id="266" name="WordArt 4"/>
          <p:cNvSpPr txBox="1"/>
          <p:nvPr/>
        </p:nvSpPr>
        <p:spPr>
          <a:xfrm>
            <a:off x="0" y="0"/>
            <a:ext cx="9144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autiful Day!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7" name="Text Box 12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219320" y="38088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3">
            <a:hlinkClick r:id="rId1" action="ppaction://hlinksldjump"/>
          </p:cNvPr>
          <p:cNvSpPr/>
          <p:nvPr/>
        </p:nvSpPr>
        <p:spPr>
          <a:xfrm>
            <a:off x="3886200" y="29718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3886200" y="3962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">
            <a:hlinkClick r:id="" action="ppaction://hlinkshowjump?jump=nextslide"/>
          </p:cNvPr>
          <p:cNvSpPr/>
          <p:nvPr/>
        </p:nvSpPr>
        <p:spPr>
          <a:xfrm>
            <a:off x="3886200" y="4876920"/>
            <a:ext cx="5257800" cy="99036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14640" h="21600">
                <a:moveTo>
                  <a:pt x="0" y="0"/>
                </a:moveTo>
                <a:lnTo>
                  <a:pt x="114640" y="0"/>
                </a:lnTo>
                <a:lnTo>
                  <a:pt x="114640" y="21600"/>
                </a:lnTo>
                <a:lnTo>
                  <a:pt x="0" y="21600"/>
                </a:lnTo>
                <a:close/>
              </a:path>
              <a:path fill="lightenLess" w="114640" h="21600">
                <a:moveTo>
                  <a:pt x="0" y="0"/>
                </a:moveTo>
                <a:lnTo>
                  <a:pt x="114640" y="0"/>
                </a:lnTo>
                <a:lnTo>
                  <a:pt x="113240" y="1400"/>
                </a:lnTo>
                <a:lnTo>
                  <a:pt x="1400" y="1400"/>
                </a:lnTo>
                <a:close/>
              </a:path>
              <a:path fill="darken" w="114640" h="21600">
                <a:moveTo>
                  <a:pt x="114640" y="0"/>
                </a:moveTo>
                <a:lnTo>
                  <a:pt x="114640" y="21600"/>
                </a:lnTo>
                <a:lnTo>
                  <a:pt x="113240" y="20200"/>
                </a:lnTo>
                <a:lnTo>
                  <a:pt x="113240" y="1400"/>
                </a:lnTo>
                <a:close/>
              </a:path>
              <a:path fill="darkenLess" w="114640" h="21600">
                <a:moveTo>
                  <a:pt x="114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240" y="20200"/>
                </a:lnTo>
                <a:close/>
              </a:path>
              <a:path fill="lighten" w="114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>
            <a:hlinkClick r:id="" action="ppaction://hlinkshowjump?jump=nextslide"/>
          </p:cNvPr>
          <p:cNvSpPr/>
          <p:nvPr/>
        </p:nvSpPr>
        <p:spPr>
          <a:xfrm>
            <a:off x="3886200" y="586728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" descr="cookiemonster"/>
          <p:cNvPicPr/>
          <p:nvPr/>
        </p:nvPicPr>
        <p:blipFill>
          <a:blip r:embed="rId2"/>
          <a:stretch/>
        </p:blipFill>
        <p:spPr>
          <a:xfrm>
            <a:off x="914400" y="1676520"/>
            <a:ext cx="4233960" cy="3274920"/>
          </a:xfrm>
          <a:prstGeom prst="rect">
            <a:avLst/>
          </a:prstGeom>
          <a:ln w="0">
            <a:noFill/>
          </a:ln>
        </p:spPr>
      </p:pic>
      <p:sp>
        <p:nvSpPr>
          <p:cNvPr id="277" name="WordArt 4"/>
          <p:cNvSpPr txBox="1"/>
          <p:nvPr/>
        </p:nvSpPr>
        <p:spPr>
          <a:xfrm>
            <a:off x="209520" y="0"/>
            <a:ext cx="8934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w Nuts, You're too good!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1430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>
            <a:hlinkClick r:id="" action="ppaction://hlinkshowjump?jump=nextslide"/>
          </p:cNvPr>
          <p:cNvSpPr/>
          <p:nvPr/>
        </p:nvSpPr>
        <p:spPr>
          <a:xfrm>
            <a:off x="4800600" y="26668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>
            <a:hlinkClick r:id="" action="ppaction://hlinkshowjump?jump=nextslide"/>
          </p:cNvPr>
          <p:cNvSpPr/>
          <p:nvPr/>
        </p:nvSpPr>
        <p:spPr>
          <a:xfrm>
            <a:off x="4800600" y="365760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4800600" y="4572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>
            <a:hlinkClick r:id="" action="ppaction://hlinkshowjump?jump=nextslide"/>
          </p:cNvPr>
          <p:cNvSpPr/>
          <p:nvPr/>
        </p:nvSpPr>
        <p:spPr>
          <a:xfrm>
            <a:off x="4800600" y="55627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4 Topic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7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frog"/>
          <p:cNvPicPr/>
          <p:nvPr/>
        </p:nvPicPr>
        <p:blipFill>
          <a:blip r:embed="rId2"/>
          <a:stretch/>
        </p:blipFill>
        <p:spPr>
          <a:xfrm>
            <a:off x="990720" y="2133720"/>
            <a:ext cx="3336840" cy="2224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I hope children never loose their sense of wonder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228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____________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3505320" y="2438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3505320" y="44197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3505320" y="34290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>
            <a:hlinkClick r:id="rId1" action="ppaction://hlinksldjump"/>
          </p:cNvPr>
          <p:cNvSpPr/>
          <p:nvPr/>
        </p:nvSpPr>
        <p:spPr>
          <a:xfrm>
            <a:off x="3505320" y="1447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76212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5 Topic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3">
            <a:hlinkClick r:id="" action="ppaction://hlinkshowjump?jump=nextslide"/>
          </p:cNvPr>
          <p:cNvSpPr/>
          <p:nvPr/>
        </p:nvSpPr>
        <p:spPr>
          <a:xfrm>
            <a:off x="4572000" y="228600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>
            <a:hlinkClick r:id="" action="ppaction://hlinkshowjump?jump=nextslide"/>
          </p:cNvPr>
          <p:cNvSpPr/>
          <p:nvPr/>
        </p:nvSpPr>
        <p:spPr>
          <a:xfrm>
            <a:off x="4572000" y="3276720"/>
            <a:ext cx="4343400" cy="914400"/>
          </a:xfrm>
          <a:custGeom>
            <a:avLst/>
            <a:gdLst>
              <a:gd name="textAreaLeft" fmla="*/ 59040 w 4343400"/>
              <a:gd name="textAreaRight" fmla="*/ 4284360 w 4343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>
            <a:hlinkClick r:id="" action="ppaction://hlinkshowjump?jump=nextslide"/>
          </p:cNvPr>
          <p:cNvSpPr/>
          <p:nvPr/>
        </p:nvSpPr>
        <p:spPr>
          <a:xfrm>
            <a:off x="4572000" y="4191120"/>
            <a:ext cx="4343400" cy="99036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94704" h="21600">
                <a:moveTo>
                  <a:pt x="0" y="0"/>
                </a:moveTo>
                <a:lnTo>
                  <a:pt x="94704" y="0"/>
                </a:lnTo>
                <a:lnTo>
                  <a:pt x="94704" y="21600"/>
                </a:lnTo>
                <a:lnTo>
                  <a:pt x="0" y="21600"/>
                </a:lnTo>
                <a:close/>
              </a:path>
              <a:path fill="lightenLess" w="94704" h="21600">
                <a:moveTo>
                  <a:pt x="0" y="0"/>
                </a:moveTo>
                <a:lnTo>
                  <a:pt x="94704" y="0"/>
                </a:lnTo>
                <a:lnTo>
                  <a:pt x="93304" y="1400"/>
                </a:lnTo>
                <a:lnTo>
                  <a:pt x="1400" y="1400"/>
                </a:lnTo>
                <a:close/>
              </a:path>
              <a:path fill="darken" w="94704" h="21600">
                <a:moveTo>
                  <a:pt x="94704" y="0"/>
                </a:moveTo>
                <a:lnTo>
                  <a:pt x="94704" y="21600"/>
                </a:lnTo>
                <a:lnTo>
                  <a:pt x="93304" y="20200"/>
                </a:lnTo>
                <a:lnTo>
                  <a:pt x="93304" y="1400"/>
                </a:lnTo>
                <a:close/>
              </a:path>
              <a:path fill="darkenLess" w="94704" h="21600">
                <a:moveTo>
                  <a:pt x="9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304" y="20200"/>
                </a:lnTo>
                <a:close/>
              </a:path>
              <a:path fill="lighten" w="9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">
            <a:hlinkClick r:id="rId1" action="ppaction://hlinksldjump"/>
          </p:cNvPr>
          <p:cNvSpPr/>
          <p:nvPr/>
        </p:nvSpPr>
        <p:spPr>
          <a:xfrm>
            <a:off x="4572000" y="5181480"/>
            <a:ext cx="4343400" cy="990720"/>
          </a:xfrm>
          <a:custGeom>
            <a:avLst/>
            <a:gdLst>
              <a:gd name="textAreaLeft" fmla="*/ 64080 w 4343400"/>
              <a:gd name="textAreaRight" fmla="*/ 4279320 w 4343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94670" h="21600">
                <a:moveTo>
                  <a:pt x="0" y="0"/>
                </a:moveTo>
                <a:lnTo>
                  <a:pt x="94670" y="0"/>
                </a:lnTo>
                <a:lnTo>
                  <a:pt x="94670" y="21600"/>
                </a:lnTo>
                <a:lnTo>
                  <a:pt x="0" y="21600"/>
                </a:lnTo>
                <a:close/>
              </a:path>
              <a:path fill="lightenLess" w="94670" h="21600">
                <a:moveTo>
                  <a:pt x="0" y="0"/>
                </a:moveTo>
                <a:lnTo>
                  <a:pt x="94670" y="0"/>
                </a:lnTo>
                <a:lnTo>
                  <a:pt x="93270" y="1400"/>
                </a:lnTo>
                <a:lnTo>
                  <a:pt x="1400" y="1400"/>
                </a:lnTo>
                <a:close/>
              </a:path>
              <a:path fill="darken" w="94670" h="21600">
                <a:moveTo>
                  <a:pt x="94670" y="0"/>
                </a:moveTo>
                <a:lnTo>
                  <a:pt x="94670" y="21600"/>
                </a:lnTo>
                <a:lnTo>
                  <a:pt x="93270" y="20200"/>
                </a:lnTo>
                <a:lnTo>
                  <a:pt x="93270" y="1400"/>
                </a:lnTo>
                <a:close/>
              </a:path>
              <a:path fill="darkenLess" w="94670" h="21600">
                <a:moveTo>
                  <a:pt x="9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270" y="20200"/>
                </a:lnTo>
                <a:close/>
              </a:path>
              <a:path fill="lighten" w="9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5 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15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WordArt 4"/>
          <p:cNvSpPr txBox="1"/>
          <p:nvPr/>
        </p:nvSpPr>
        <p:spPr>
          <a:xfrm>
            <a:off x="762120" y="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CELL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057480" cy="23446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29528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">
            <a:hlinkClick r:id="rId1" action="ppaction://hlinksldjump"/>
          </p:cNvPr>
          <p:cNvSpPr/>
          <p:nvPr/>
        </p:nvSpPr>
        <p:spPr>
          <a:xfrm>
            <a:off x="4038480" y="266688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4">
            <a:hlinkClick r:id="" action="ppaction://hlinkshowjump?jump=nextslide"/>
          </p:cNvPr>
          <p:cNvSpPr/>
          <p:nvPr/>
        </p:nvSpPr>
        <p:spPr>
          <a:xfrm>
            <a:off x="4038480" y="3657600"/>
            <a:ext cx="4800600" cy="914400"/>
          </a:xfrm>
          <a:custGeom>
            <a:avLst/>
            <a:gdLst>
              <a:gd name="textAreaLeft" fmla="*/ 59040 w 4800600"/>
              <a:gd name="textAreaRight" fmla="*/ 4741560 w 4800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3364" h="21600">
                <a:moveTo>
                  <a:pt x="0" y="0"/>
                </a:moveTo>
                <a:lnTo>
                  <a:pt x="113364" y="0"/>
                </a:lnTo>
                <a:lnTo>
                  <a:pt x="113364" y="21600"/>
                </a:lnTo>
                <a:lnTo>
                  <a:pt x="0" y="21600"/>
                </a:lnTo>
                <a:close/>
              </a:path>
              <a:path fill="lightenLess" w="113364" h="21600">
                <a:moveTo>
                  <a:pt x="0" y="0"/>
                </a:moveTo>
                <a:lnTo>
                  <a:pt x="113364" y="0"/>
                </a:lnTo>
                <a:lnTo>
                  <a:pt x="111964" y="1400"/>
                </a:lnTo>
                <a:lnTo>
                  <a:pt x="1400" y="1400"/>
                </a:lnTo>
                <a:close/>
              </a:path>
              <a:path fill="darken" w="113364" h="21600">
                <a:moveTo>
                  <a:pt x="113364" y="0"/>
                </a:moveTo>
                <a:lnTo>
                  <a:pt x="113364" y="21600"/>
                </a:lnTo>
                <a:lnTo>
                  <a:pt x="111964" y="20200"/>
                </a:lnTo>
                <a:lnTo>
                  <a:pt x="111964" y="1400"/>
                </a:lnTo>
                <a:close/>
              </a:path>
              <a:path fill="darkenLess" w="113364" h="21600">
                <a:moveTo>
                  <a:pt x="11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4" y="20200"/>
                </a:lnTo>
                <a:close/>
              </a:path>
              <a:path fill="lighten" w="11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">
            <a:hlinkClick r:id="" action="ppaction://hlinkshowjump?jump=nextslide"/>
          </p:cNvPr>
          <p:cNvSpPr/>
          <p:nvPr/>
        </p:nvSpPr>
        <p:spPr>
          <a:xfrm>
            <a:off x="4038480" y="4572000"/>
            <a:ext cx="4800600" cy="99072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04634" h="21600">
                <a:moveTo>
                  <a:pt x="0" y="0"/>
                </a:moveTo>
                <a:lnTo>
                  <a:pt x="104634" y="0"/>
                </a:lnTo>
                <a:lnTo>
                  <a:pt x="104634" y="21600"/>
                </a:lnTo>
                <a:lnTo>
                  <a:pt x="0" y="21600"/>
                </a:lnTo>
                <a:close/>
              </a:path>
              <a:path fill="lightenLess" w="104634" h="21600">
                <a:moveTo>
                  <a:pt x="0" y="0"/>
                </a:moveTo>
                <a:lnTo>
                  <a:pt x="104634" y="0"/>
                </a:lnTo>
                <a:lnTo>
                  <a:pt x="103234" y="1400"/>
                </a:lnTo>
                <a:lnTo>
                  <a:pt x="1400" y="1400"/>
                </a:lnTo>
                <a:close/>
              </a:path>
              <a:path fill="darken" w="104634" h="21600">
                <a:moveTo>
                  <a:pt x="104634" y="0"/>
                </a:moveTo>
                <a:lnTo>
                  <a:pt x="104634" y="21600"/>
                </a:lnTo>
                <a:lnTo>
                  <a:pt x="103234" y="20200"/>
                </a:lnTo>
                <a:lnTo>
                  <a:pt x="103234" y="1400"/>
                </a:lnTo>
                <a:close/>
              </a:path>
              <a:path fill="darkenLess" w="104634" h="21600">
                <a:moveTo>
                  <a:pt x="104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34" y="20200"/>
                </a:lnTo>
                <a:close/>
              </a:path>
              <a:path fill="lighten" w="104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>
            <a:hlinkClick r:id="" action="ppaction://hlinkshowjump?jump=nextslide"/>
          </p:cNvPr>
          <p:cNvSpPr/>
          <p:nvPr/>
        </p:nvSpPr>
        <p:spPr>
          <a:xfrm>
            <a:off x="4038480" y="5562720"/>
            <a:ext cx="4800600" cy="990360"/>
          </a:xfrm>
          <a:custGeom>
            <a:avLst/>
            <a:gdLst>
              <a:gd name="textAreaLeft" fmla="*/ 64080 w 4800600"/>
              <a:gd name="textAreaRight" fmla="*/ 4736520 w 4800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04672" h="21600">
                <a:moveTo>
                  <a:pt x="0" y="0"/>
                </a:moveTo>
                <a:lnTo>
                  <a:pt x="104672" y="0"/>
                </a:lnTo>
                <a:lnTo>
                  <a:pt x="104672" y="21600"/>
                </a:lnTo>
                <a:lnTo>
                  <a:pt x="0" y="21600"/>
                </a:lnTo>
                <a:close/>
              </a:path>
              <a:path fill="lightenLess" w="104672" h="21600">
                <a:moveTo>
                  <a:pt x="0" y="0"/>
                </a:moveTo>
                <a:lnTo>
                  <a:pt x="104672" y="0"/>
                </a:lnTo>
                <a:lnTo>
                  <a:pt x="103272" y="1400"/>
                </a:lnTo>
                <a:lnTo>
                  <a:pt x="1400" y="1400"/>
                </a:lnTo>
                <a:close/>
              </a:path>
              <a:path fill="darken" w="104672" h="21600">
                <a:moveTo>
                  <a:pt x="104672" y="0"/>
                </a:moveTo>
                <a:lnTo>
                  <a:pt x="104672" y="21600"/>
                </a:lnTo>
                <a:lnTo>
                  <a:pt x="103272" y="20200"/>
                </a:lnTo>
                <a:lnTo>
                  <a:pt x="103272" y="1400"/>
                </a:lnTo>
                <a:close/>
              </a:path>
              <a:path fill="darkenLess" w="104672" h="21600">
                <a:moveTo>
                  <a:pt x="10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272" y="20200"/>
                </a:lnTo>
                <a:close/>
              </a:path>
              <a:path fill="lighten" w="10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380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1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What a pickle! I am getting so many questions correc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743200" cy="30859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0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>
            <a:hlinkClick r:id="" action="ppaction://hlinkshowjump?jump=nextslide"/>
          </p:cNvPr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4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5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457200" y="3808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2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>
            <a:hlinkClick r:id="" action="ppaction://hlinkshowjump?jump=previousslide"/>
            <a:hlinkClick r:id="rId1"/>
          </p:cNvPr>
          <p:cNvSpPr/>
          <p:nvPr/>
        </p:nvSpPr>
        <p:spPr>
          <a:xfrm>
            <a:off x="40384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WordArt 6"/>
          <p:cNvSpPr txBox="1"/>
          <p:nvPr/>
        </p:nvSpPr>
        <p:spPr>
          <a:xfrm>
            <a:off x="0" y="1066680"/>
            <a:ext cx="8534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 passed with flying color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1114560" cy="44578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0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457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6400800" y="9907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">
            <a:hlinkClick r:id="" action="ppaction://hlinkshowjump?jump=nextslide"/>
          </p:cNvPr>
          <p:cNvSpPr/>
          <p:nvPr/>
        </p:nvSpPr>
        <p:spPr>
          <a:xfrm>
            <a:off x="6400800" y="220968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">
            <a:hlinkClick r:id="" action="ppaction://hlinkshowjump?jump=nextslide"/>
          </p:cNvPr>
          <p:cNvSpPr/>
          <p:nvPr/>
        </p:nvSpPr>
        <p:spPr>
          <a:xfrm>
            <a:off x="6400800" y="342900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6">
            <a:hlinkClick r:id="" action="ppaction://hlinkshowjump?jump=nextslide"/>
          </p:cNvPr>
          <p:cNvSpPr/>
          <p:nvPr/>
        </p:nvSpPr>
        <p:spPr>
          <a:xfrm>
            <a:off x="6400800" y="46483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3049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ain gau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ool used to measure the amount of rain that has fal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6">
            <a:hlinkClick r:id="rId1" action="ppaction://hlinksldjump"/>
          </p:cNvPr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7" descr=""/>
          <p:cNvPicPr/>
          <p:nvPr/>
        </p:nvPicPr>
        <p:blipFill>
          <a:blip r:embed="rId4"/>
          <a:stretch/>
        </p:blipFill>
        <p:spPr>
          <a:xfrm>
            <a:off x="2743200" y="14479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14300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3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5"/>
          <p:cNvSpPr/>
          <p:nvPr/>
        </p:nvSpPr>
        <p:spPr>
          <a:xfrm>
            <a:off x="739152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8098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3" descr="spiderman"/>
          <p:cNvPicPr/>
          <p:nvPr/>
        </p:nvPicPr>
        <p:blipFill>
          <a:blip r:embed="rId2"/>
          <a:stretch/>
        </p:blipFill>
        <p:spPr>
          <a:xfrm>
            <a:off x="2362320" y="2133720"/>
            <a:ext cx="1309680" cy="30128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4"/>
          <p:cNvSpPr txBox="1"/>
          <p:nvPr/>
        </p:nvSpPr>
        <p:spPr>
          <a:xfrm>
            <a:off x="0" y="533520"/>
            <a:ext cx="868680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 infinity and beyon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3808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4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3">
            <a:hlinkClick r:id="" action="ppaction://hlinkshowjump?jump=nextslide"/>
          </p:cNvPr>
          <p:cNvSpPr/>
          <p:nvPr/>
        </p:nvSpPr>
        <p:spPr>
          <a:xfrm>
            <a:off x="5638680" y="19810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5638680" y="29718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">
            <a:hlinkClick r:id="" action="ppaction://hlinkshowjump?jump=nextslide"/>
          </p:cNvPr>
          <p:cNvSpPr/>
          <p:nvPr/>
        </p:nvSpPr>
        <p:spPr>
          <a:xfrm>
            <a:off x="5638680" y="388620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6">
            <a:hlinkClick r:id="" action="ppaction://hlinkshowjump?jump=nextslide"/>
          </p:cNvPr>
          <p:cNvSpPr/>
          <p:nvPr/>
        </p:nvSpPr>
        <p:spPr>
          <a:xfrm>
            <a:off x="5638680" y="48769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380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4 Topic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678168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" descr="hamsters"/>
          <p:cNvPicPr/>
          <p:nvPr/>
        </p:nvPicPr>
        <p:blipFill>
          <a:blip r:embed="rId2"/>
          <a:stretch/>
        </p:blipFill>
        <p:spPr>
          <a:xfrm>
            <a:off x="1676520" y="2286000"/>
            <a:ext cx="5394240" cy="1800360"/>
          </a:xfrm>
          <a:prstGeom prst="rect">
            <a:avLst/>
          </a:prstGeom>
          <a:ln w="0">
            <a:noFill/>
          </a:ln>
        </p:spPr>
      </p:pic>
      <p:sp>
        <p:nvSpPr>
          <p:cNvPr id="343" name="WordArt 4"/>
          <p:cNvSpPr txBox="1"/>
          <p:nvPr/>
        </p:nvSpPr>
        <p:spPr>
          <a:xfrm>
            <a:off x="0" y="609480"/>
            <a:ext cx="8915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here's no place like ho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0" y="474660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8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3">
            <a:hlinkClick r:id="" action="ppaction://hlinkshowjump?jump=nextslide"/>
          </p:cNvPr>
          <p:cNvSpPr/>
          <p:nvPr/>
        </p:nvSpPr>
        <p:spPr>
          <a:xfrm>
            <a:off x="5943600" y="1523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5943600" y="25146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Wr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5943600" y="342900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6">
            <a:hlinkClick r:id="" action="ppaction://hlinkshowjump?jump=nextslide"/>
          </p:cNvPr>
          <p:cNvSpPr/>
          <p:nvPr/>
        </p:nvSpPr>
        <p:spPr>
          <a:xfrm>
            <a:off x="5943600" y="4419720"/>
            <a:ext cx="3200400" cy="99036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69784" h="21600">
                <a:moveTo>
                  <a:pt x="0" y="0"/>
                </a:moveTo>
                <a:lnTo>
                  <a:pt x="69784" y="0"/>
                </a:lnTo>
                <a:lnTo>
                  <a:pt x="69784" y="21600"/>
                </a:lnTo>
                <a:lnTo>
                  <a:pt x="0" y="21600"/>
                </a:lnTo>
                <a:close/>
              </a:path>
              <a:path fill="lightenLess" w="69784" h="21600">
                <a:moveTo>
                  <a:pt x="0" y="0"/>
                </a:moveTo>
                <a:lnTo>
                  <a:pt x="69784" y="0"/>
                </a:lnTo>
                <a:lnTo>
                  <a:pt x="68384" y="1400"/>
                </a:lnTo>
                <a:lnTo>
                  <a:pt x="1400" y="1400"/>
                </a:lnTo>
                <a:close/>
              </a:path>
              <a:path fill="darken" w="69784" h="21600">
                <a:moveTo>
                  <a:pt x="69784" y="0"/>
                </a:moveTo>
                <a:lnTo>
                  <a:pt x="69784" y="21600"/>
                </a:lnTo>
                <a:lnTo>
                  <a:pt x="68384" y="20200"/>
                </a:lnTo>
                <a:lnTo>
                  <a:pt x="68384" y="1400"/>
                </a:lnTo>
                <a:close/>
              </a:path>
              <a:path fill="darkenLess" w="69784" h="21600">
                <a:moveTo>
                  <a:pt x="6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84" y="20200"/>
                </a:lnTo>
                <a:close/>
              </a:path>
              <a:path fill="lighten" w="6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swer 5 Topic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3657600" y="5105520"/>
            <a:ext cx="1752480" cy="1752480"/>
          </a:xfrm>
          <a:custGeom>
            <a:avLst/>
            <a:gdLst>
              <a:gd name="textAreaLeft" fmla="*/ 113400 w 1752480"/>
              <a:gd name="textAreaRight" fmla="*/ 1639080 w 175248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>
            <a:hlinkClick r:id="" action="ppaction://hlinkshowjump?jump=previousslide"/>
            <a:hlinkClick r:id="rId1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pokemon"/>
          <p:cNvPicPr/>
          <p:nvPr/>
        </p:nvPicPr>
        <p:blipFill>
          <a:blip r:embed="rId2"/>
          <a:stretch/>
        </p:blipFill>
        <p:spPr>
          <a:xfrm>
            <a:off x="1523880" y="2133720"/>
            <a:ext cx="2586240" cy="2757240"/>
          </a:xfrm>
          <a:prstGeom prst="rect">
            <a:avLst/>
          </a:prstGeom>
          <a:ln w="0">
            <a:noFill/>
          </a:ln>
        </p:spPr>
      </p:pic>
      <p:sp>
        <p:nvSpPr>
          <p:cNvPr id="354" name="WordArt 4"/>
          <p:cNvSpPr txBox="1"/>
          <p:nvPr/>
        </p:nvSpPr>
        <p:spPr>
          <a:xfrm>
            <a:off x="533520" y="22860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up?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bt"/>
          <p:cNvPicPr/>
          <p:nvPr/>
        </p:nvPicPr>
        <p:blipFill>
          <a:blip r:embed="rId1"/>
          <a:stretch/>
        </p:blipFill>
        <p:spPr>
          <a:xfrm>
            <a:off x="3581280" y="2209680"/>
            <a:ext cx="2346480" cy="21672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1143000" y="533520"/>
            <a:ext cx="6400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ou're hammering away now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AutoShape 4">
            <a:hlinkClick r:id="" action="ppaction://hlinkshowjump?jump=previousslide"/>
            <a:hlinkClick r:id="rId2"/>
          </p:cNvPr>
          <p:cNvSpPr/>
          <p:nvPr/>
        </p:nvSpPr>
        <p:spPr>
          <a:xfrm>
            <a:off x="3429000" y="5029200"/>
            <a:ext cx="2362320" cy="1828800"/>
          </a:xfrm>
          <a:custGeom>
            <a:avLst/>
            <a:gdLst>
              <a:gd name="textAreaLeft" fmla="*/ 118440 w 2362320"/>
              <a:gd name="textAreaRight" fmla="*/ 2243880 w 23623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7900" h="21600">
                <a:moveTo>
                  <a:pt x="0" y="0"/>
                </a:moveTo>
                <a:lnTo>
                  <a:pt x="27900" y="0"/>
                </a:lnTo>
                <a:lnTo>
                  <a:pt x="27900" y="21600"/>
                </a:lnTo>
                <a:lnTo>
                  <a:pt x="0" y="21600"/>
                </a:lnTo>
                <a:close/>
              </a:path>
              <a:path fill="lightenLess" w="27900" h="21600">
                <a:moveTo>
                  <a:pt x="0" y="0"/>
                </a:moveTo>
                <a:lnTo>
                  <a:pt x="27900" y="0"/>
                </a:lnTo>
                <a:lnTo>
                  <a:pt x="26500" y="1400"/>
                </a:lnTo>
                <a:lnTo>
                  <a:pt x="1400" y="1400"/>
                </a:lnTo>
                <a:close/>
              </a:path>
              <a:path fill="darken" w="27900" h="21600">
                <a:moveTo>
                  <a:pt x="27900" y="0"/>
                </a:moveTo>
                <a:lnTo>
                  <a:pt x="27900" y="21600"/>
                </a:lnTo>
                <a:lnTo>
                  <a:pt x="26500" y="20200"/>
                </a:lnTo>
                <a:lnTo>
                  <a:pt x="26500" y="1400"/>
                </a:lnTo>
                <a:close/>
              </a:path>
              <a:path fill="darkenLess" w="27900" h="21600">
                <a:moveTo>
                  <a:pt x="27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" y="20200"/>
                </a:lnTo>
                <a:close/>
              </a:path>
              <a:path fill="lighten" w="27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0" h="21600">
                <a:moveTo>
                  <a:pt x="13950" y="3837"/>
                </a:moveTo>
                <a:lnTo>
                  <a:pt x="16526" y="6448"/>
                </a:ln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lnTo>
                  <a:pt x="20913" y="10800"/>
                </a:lnTo>
                <a:lnTo>
                  <a:pt x="19259" y="10800"/>
                </a:lnTo>
                <a:lnTo>
                  <a:pt x="19259" y="17989"/>
                </a:lnTo>
                <a:lnTo>
                  <a:pt x="8641" y="17989"/>
                </a:lnTo>
                <a:lnTo>
                  <a:pt x="8641" y="10800"/>
                </a:lnTo>
                <a:lnTo>
                  <a:pt x="6987" y="10800"/>
                </a:lnTo>
                <a:close/>
              </a:path>
              <a:path fill="darkenLess" w="27900" h="21600">
                <a:moveTo>
                  <a:pt x="16526" y="6448"/>
                </a:moveTo>
                <a:lnTo>
                  <a:pt x="16526" y="4707"/>
                </a:lnTo>
                <a:lnTo>
                  <a:pt x="18302" y="4707"/>
                </a:lnTo>
                <a:lnTo>
                  <a:pt x="18302" y="8224"/>
                </a:lnTo>
                <a:close/>
              </a:path>
              <a:path fill="darkenLess" w="27900" h="21600">
                <a:moveTo>
                  <a:pt x="13027" y="14299"/>
                </a:moveTo>
                <a:lnTo>
                  <a:pt x="14873" y="14299"/>
                </a:lnTo>
                <a:lnTo>
                  <a:pt x="14873" y="17989"/>
                </a:lnTo>
                <a:lnTo>
                  <a:pt x="19259" y="17989"/>
                </a:lnTo>
                <a:lnTo>
                  <a:pt x="19259" y="10800"/>
                </a:lnTo>
                <a:lnTo>
                  <a:pt x="8641" y="10800"/>
                </a:lnTo>
                <a:lnTo>
                  <a:pt x="8641" y="17989"/>
                </a:lnTo>
                <a:lnTo>
                  <a:pt x="13027" y="17989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>
            <a:hlinkClick r:id="rId3"/>
          </p:cNvPr>
          <p:cNvSpPr/>
          <p:nvPr/>
        </p:nvSpPr>
        <p:spPr>
          <a:xfrm>
            <a:off x="6324480" y="2438280"/>
            <a:ext cx="2819520" cy="21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record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________ is a tool used to measure the tempera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3505320" y="388620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B. 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3505320" y="58672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D. Ba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nextslide"/>
          </p:cNvPr>
          <p:cNvSpPr/>
          <p:nvPr/>
        </p:nvSpPr>
        <p:spPr>
          <a:xfrm>
            <a:off x="3505320" y="4876920"/>
            <a:ext cx="5638680" cy="99036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22944" h="21600">
                <a:moveTo>
                  <a:pt x="0" y="0"/>
                </a:moveTo>
                <a:lnTo>
                  <a:pt x="122944" y="0"/>
                </a:lnTo>
                <a:lnTo>
                  <a:pt x="122944" y="21600"/>
                </a:lnTo>
                <a:lnTo>
                  <a:pt x="0" y="21600"/>
                </a:lnTo>
                <a:close/>
              </a:path>
              <a:path fill="lightenLess" w="122944" h="21600">
                <a:moveTo>
                  <a:pt x="0" y="0"/>
                </a:moveTo>
                <a:lnTo>
                  <a:pt x="122944" y="0"/>
                </a:lnTo>
                <a:lnTo>
                  <a:pt x="121544" y="1400"/>
                </a:lnTo>
                <a:lnTo>
                  <a:pt x="1400" y="1400"/>
                </a:lnTo>
                <a:close/>
              </a:path>
              <a:path fill="darken" w="122944" h="21600">
                <a:moveTo>
                  <a:pt x="122944" y="0"/>
                </a:moveTo>
                <a:lnTo>
                  <a:pt x="122944" y="21600"/>
                </a:lnTo>
                <a:lnTo>
                  <a:pt x="121544" y="20200"/>
                </a:lnTo>
                <a:lnTo>
                  <a:pt x="121544" y="1400"/>
                </a:lnTo>
                <a:close/>
              </a:path>
              <a:path fill="darkenLess" w="122944" h="21600">
                <a:moveTo>
                  <a:pt x="1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44" y="20200"/>
                </a:lnTo>
                <a:close/>
              </a:path>
              <a:path fill="lighten" w="1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C. Rain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3505320" y="2895480"/>
            <a:ext cx="5638680" cy="990720"/>
          </a:xfrm>
          <a:custGeom>
            <a:avLst/>
            <a:gdLst>
              <a:gd name="textAreaLeft" fmla="*/ 64080 w 5638680"/>
              <a:gd name="textAreaRight" fmla="*/ 5574600 w 5638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22900" h="21600">
                <a:moveTo>
                  <a:pt x="0" y="0"/>
                </a:moveTo>
                <a:lnTo>
                  <a:pt x="122900" y="0"/>
                </a:lnTo>
                <a:lnTo>
                  <a:pt x="122900" y="21600"/>
                </a:lnTo>
                <a:lnTo>
                  <a:pt x="0" y="21600"/>
                </a:lnTo>
                <a:close/>
              </a:path>
              <a:path fill="lightenLess" w="122900" h="21600">
                <a:moveTo>
                  <a:pt x="0" y="0"/>
                </a:moveTo>
                <a:lnTo>
                  <a:pt x="122900" y="0"/>
                </a:lnTo>
                <a:lnTo>
                  <a:pt x="121500" y="1400"/>
                </a:lnTo>
                <a:lnTo>
                  <a:pt x="1400" y="1400"/>
                </a:lnTo>
                <a:close/>
              </a:path>
              <a:path fill="darken" w="122900" h="21600">
                <a:moveTo>
                  <a:pt x="122900" y="0"/>
                </a:moveTo>
                <a:lnTo>
                  <a:pt x="122900" y="21600"/>
                </a:lnTo>
                <a:lnTo>
                  <a:pt x="121500" y="20200"/>
                </a:lnTo>
                <a:lnTo>
                  <a:pt x="121500" y="1400"/>
                </a:lnTo>
                <a:close/>
              </a:path>
              <a:path fill="darkenLess" w="122900" h="21600">
                <a:moveTo>
                  <a:pt x="122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00" y="20200"/>
                </a:lnTo>
                <a:close/>
              </a:path>
              <a:path fill="lighten" w="122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an"/>
              </a:rPr>
              <a:t>A. Weather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3:50:49Z</dcterms:created>
  <dc:creator>Obe Hostetter</dc:creator>
  <dc:description/>
  <dc:language>en-US</dc:language>
  <cp:lastModifiedBy>Paula</cp:lastModifiedBy>
  <dcterms:modified xsi:type="dcterms:W3CDTF">2011-09-27T23:32:01Z</dcterms:modified>
  <cp:revision>90</cp:revision>
  <dc:subject/>
  <dc:title>PowerPoint Presentation</dc:title>
</cp:coreProperties>
</file>